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099-6666-48C9-89F5-F2C8B4E18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1C39-ABF1-42E6-BB6B-E49EEDCED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ECBA-3782-4043-89FC-7113D46FA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8CC-8123-4C27-B96E-242F3DFC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7D4-4FCC-4E3C-A425-47F29335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E5A2-E212-4595-BAC4-9581E6A8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947-2A2C-4174-A384-AE2B50F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725-8FD7-451B-8E59-AFAA4BA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275-9375-4F27-8153-4F7DBC3E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C44-38B1-4553-AF37-C37AFE5B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705-0A74-46D0-A799-0AAB28F1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924-CE6F-4B94-A9C3-44859D1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634-E841-4192-A312-8BD84D4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D93-6C45-4790-8350-40318EAC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941-A424-48A8-9B5A-C9155840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EB7-C59D-43AB-A7E1-D75554E07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: Coming to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3-6, p. 4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cember 1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: 8, 15, 22, 29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+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8  +  (18 – 1)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8  +  (17)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8  +  11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2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: 13, 26, 39, 52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+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3  +  (25 – 1)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3  +  (24)1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13  +  3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 21st term: 3.5, 7, 10.5, 14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+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2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.5  +  (21 – 1)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.5  +  (20)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3.5  +  7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73.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d the given term in each arithmetic sequence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 =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₁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(n – 1)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.  52nd term: -8, -16, -24, -32,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mmon difference, d,  is 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rm we are looking for, n, is 5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term in sequence, a₁, is 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8  +  (52 – 1)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8  +  (51)-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8  +  -40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=  -4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 the equation for the nth term in each arithmetic sequence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= a₁ +  (n – 1)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9.  3, 9, 15, 21, ..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ommon difference, d,  is +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term in sequence, a₁, is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3  +  (n – 1)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3  +  6n  -  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6n  - 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d the equation for the nth term in each arithmetic sequence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= a₁ +  (n – 1)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10.  16, 14, 12, 10, ..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ommon difference, d,  is -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term in sequence, a₁, is 16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16  +  (n – 1)-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16  +  (-2n)  + 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 =  -2n  +  18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1:21:02Z</dcterms:created>
  <dc:creator>New User</dc:creator>
  <dc:description/>
  <dc:language>en-US</dc:language>
  <cp:lastModifiedBy>jeff.bouchard</cp:lastModifiedBy>
  <dcterms:modified xsi:type="dcterms:W3CDTF">2011-12-01T17:25:12Z</dcterms:modified>
  <cp:revision>21</cp:revision>
  <dc:subject/>
  <dc:title>Challenge: Coming to Terms</dc:title>
</cp:coreProperties>
</file>